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690-8FA3-4D5F-B858-2A9C14A7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3C67-EBA7-4424-894F-FCC98D209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C3E-9577-427B-B5D9-F3B5FA7F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046-94EC-44FA-BA2B-30A6041A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D3D-608E-4EFD-8CC8-6F0716B5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1095-88D5-4715-934C-AD3A01597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C73-AB7A-4FC2-BF47-B56FB766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746-E869-44B6-8873-35D0351E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6F1-7325-4D2D-AE13-F0C0ACB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241-2F22-4A18-B9F3-936971D2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AFB-3206-441F-8115-4F39B646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A7F-2041-415F-A091-F05B8061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C29-F164-4587-A1B8-EBDF720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F9F-3A39-4EEE-A2A2-6619768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09B-B96E-439A-88CD-B562AB52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4EA-134D-4BFA-AB77-E84D031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EC9-D57A-4DAC-9464-CD603E5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8D7-F4C2-4E5B-8E6E-B00E1B8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980-A93C-40DE-BA5F-19C39CB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3A59-3C78-466A-9793-97E498318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WII general who later became president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 leader of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irst and last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95280" y="1752480"/>
            <a:ext cx="6324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o Zed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02520" y="2159640"/>
            <a:ext cx="5504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that communism was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ake over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contro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rvival of the fittes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pit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ownershi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ity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ie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1295280"/>
            <a:ext cx="63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co and Vanzetti were two Italian _____________ wrongly convicted on circumstantial and prejudici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migr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12952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on betwee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ed St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57200" y="1752480"/>
            <a:ext cx="83059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aimed at rebuilding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ed to help countries resist Commu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ed to check Soviet aggression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819920" y="38862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219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ed S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tar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ld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Korea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spio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st WW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44792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olicy of stopping the spread of Commun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it and describe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hed Potatoes and Gr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viet response to N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rsaw 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47920" y="16002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isible division between Democratic West and Communist East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ur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y divided into Democratic West and Communist Ea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5280" y="380880"/>
            <a:ext cx="63248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ented the surrender of 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 Air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________ race is a build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50, the United States invented this super bomb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 is divided at the 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8th 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 of the Korean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Korea inv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Ko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295280" y="2362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wanted to use all means to defeat communism in 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’s willingness to go right to the edge of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19051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couple sentenced to death for giving bomb blueprints to the Russ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senber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16765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who led a “witch hunt” to find possible Commu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cCart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victed of per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Prime Minister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e 1950s the House __________ Activities Committee was 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Ameri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unched into space by the Soviets in 19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ut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066680" y="879480"/>
            <a:ext cx="7162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GERMANY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the Soviet Union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8-12-09T17:45:27Z</dcterms:modified>
  <cp:revision>169</cp:revision>
  <dc:subject/>
  <dc:title>No Slide Title</dc:title>
</cp:coreProperties>
</file>